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DBA6-E71C-46AF-AF42-1FD1089F3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3781-F5E1-42B2-9BF6-9C41C83D4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DE50-DAED-451F-A82D-2C543E6B9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594D-895D-4899-A664-4501EE4F9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185E-C241-49E3-912D-9321003002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CD17-815B-4068-AD09-84F9924F1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E08D-177F-4AA2-83DC-B77EA39C3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4FF4-62F7-46F8-82DB-4056C6FDD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A714-8B20-4B7E-A6B2-97B9DD5C2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CE07-9AEE-43C5-B81C-511DE2682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078E-B6BB-4137-9DFD-55631FD74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9574-73E4-4251-B1A3-8468DF504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35580E-F380-457F-BC41-483BDC021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468360"/>
            <a:ext cx="822816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«Как вы думаете, можно ли провести хирургическую операцию, находясь в тысячах километрах от пациента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720720"/>
            <a:ext cx="822816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«Пётр получил сообщение на электронную почту от известного банка о том, что этот банк проводит опрос потребителей финансовых услуг. Петру предлагалось по ссылке на интернет-сайте пройти опрос и получить вознаграждение в 10 тыс. рублей. Для получения доступа к опросу требовалось перечислить со счёта телефона 200 рублей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В чём состоит опасность данной ситуации для личных финансов Пётр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Как ему правильно поступить в данной ситуации?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720720"/>
            <a:ext cx="822816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Noto Sans CJK SC"/>
              </a:rPr>
              <a:t>СЕТЕВОЙ ЭТИКЕТ, или СЕТИКЕТ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это правила поведения пользовател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сети Интер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0" y="890640"/>
            <a:ext cx="2776680" cy="1449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606840" y="4319640"/>
            <a:ext cx="1973160" cy="14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40000" y="1717560"/>
            <a:ext cx="6626160" cy="458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620640"/>
            <a:ext cx="842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важайте своих невидимых партнёров по Сети!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2276640"/>
            <a:ext cx="532908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авила сетевого этик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14172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уйте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22100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йте и уваж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его адрес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5300640"/>
            <a:ext cx="3024360" cy="631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ы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му со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6165720"/>
            <a:ext cx="3024360" cy="520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те грамо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3068640"/>
            <a:ext cx="367164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но выраж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моции с помощью смай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148280"/>
            <a:ext cx="3671640" cy="86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запраши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тверждения пол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общения без над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6093000"/>
            <a:ext cx="3671640" cy="50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допускайте сп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5229360"/>
            <a:ext cx="3671640" cy="663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надейтесь на пол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фиденциальность пере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2781360"/>
            <a:ext cx="1440" cy="360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3573360"/>
            <a:ext cx="936720" cy="18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4581360"/>
            <a:ext cx="64764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589720"/>
            <a:ext cx="936720" cy="14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6381720"/>
            <a:ext cx="64764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5589720"/>
            <a:ext cx="64764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4581360"/>
            <a:ext cx="934920" cy="18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3573360"/>
            <a:ext cx="64764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6381720"/>
            <a:ext cx="936720" cy="14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7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dur="indefinite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dur="indefinite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dur="indefinite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dur="indefinite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dur="indefinite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7200" y="468360"/>
            <a:ext cx="822816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«Хирургическую операци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можно провести, находя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в тысячах километров от пациента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9211e"/>
                </a:solidFill>
                <a:latin typeface="Times New Roman"/>
                <a:ea typeface="Noto Sans CJK SC"/>
              </a:rPr>
              <a:t>Истина или лож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60360" y="0"/>
            <a:ext cx="619776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498560" y="720360"/>
            <a:ext cx="4189320" cy="54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Благодаря современным средствам коммуникации высококлассные специалисты на расстоянии проводят опер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Первую хирургическую операцию при помощи телекоммуникации и роботов выполнил 7сентября 2001года французский хирург Жак Мареск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Врач находился в Нью-Йорке, а пациент во Фран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Расстояние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амолетом: 5.937,79 km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50920" y="905040"/>
            <a:ext cx="3348000" cy="485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468360"/>
            <a:ext cx="822816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Noto Sans CJK SC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что нового я узнал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- с какими сложностями столкнул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- что для меня осталось непонят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§ 4.3, прочит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дготовить сообщение о социальных сетях (Вконтакте, Telegram, Whatsapp и др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a6099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79640" y="468360"/>
            <a:ext cx="760572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Что такое сервис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WWW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Что является его осново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Что такое гиперссылк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Что такое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URL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Из каких частей он состоит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Для чего нужен протокол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FTP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3640" y="1341360"/>
            <a:ext cx="5761080" cy="576360"/>
          </a:xfrm>
          <a:prstGeom prst="rect">
            <a:avLst/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сурсы и сервисы сети 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ми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айл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х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bde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2421000"/>
            <a:ext cx="208764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рв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ллекти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698480" y="1917720"/>
            <a:ext cx="64800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82480" y="1917720"/>
            <a:ext cx="7164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917720"/>
            <a:ext cx="144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1917720"/>
            <a:ext cx="50508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67440" y="3943440"/>
            <a:ext cx="3076560" cy="2928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357280" y="3929040"/>
            <a:ext cx="3916440" cy="292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392904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Arial"/>
              </a:rPr>
              <a:t>Ресурсы и сервисы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1955520"/>
            <a:ext cx="750888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	</a:t>
            </a:r>
            <a:r>
              <a:rPr b="1" i="1" lang="ru-RU" sz="4000" spc="-1" strike="noStrike">
                <a:solidFill>
                  <a:srgbClr val="2a6099"/>
                </a:solidFill>
                <a:latin typeface="Times New Roman"/>
                <a:ea typeface="Arial Narrow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2a6099"/>
                </a:solidFill>
                <a:latin typeface="Times New Roman"/>
                <a:ea typeface="Arial Narrow"/>
              </a:rPr>
              <a:t>познакомиться с электронной почтой и популярными сервисами обмена информацией и общения в сети Интерн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720720" y="298080"/>
            <a:ext cx="8228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Тема: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«Электронная почта и сервисы коллективного взаимодейств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3543120" cy="413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ая почта (e-mail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это система обмена сообщениями (письмами) между абонентами компьютерных с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2637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ысокая скорость пересылки сооб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645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пересылки прикреплё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айлов, содержащих графику, зв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4653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одновременной рассыл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исьма сразу нескольким адреса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844640"/>
            <a:ext cx="7488360" cy="576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имущества электронной поч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2421000"/>
            <a:ext cx="1440" cy="259236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2997360"/>
            <a:ext cx="100800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4005360"/>
            <a:ext cx="100800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5013360"/>
            <a:ext cx="100800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516640"/>
            <a:ext cx="8424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юбой пользователь Интернета может завести свой почтовый ящик - поименованную область дисковой памяти на почтовом сервере своего провайдера, куда будет помещаться входящая и исходящая корреспонденц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170028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&lt;имя_пользователя&gt;@&lt;имя_сервера&gt;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484360" y="4292640"/>
            <a:ext cx="3451320" cy="520560"/>
            <a:chOff x="2484360" y="4292640"/>
            <a:chExt cx="3451320" cy="520560"/>
          </a:xfrm>
        </p:grpSpPr>
        <p:sp>
          <p:nvSpPr>
            <p:cNvPr id="75" name=""/>
            <p:cNvSpPr/>
            <p:nvPr/>
          </p:nvSpPr>
          <p:spPr>
            <a:xfrm>
              <a:off x="2484360" y="4292640"/>
              <a:ext cx="107496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ul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65440" y="4292640"/>
              <a:ext cx="4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41800" y="4292640"/>
              <a:ext cx="85716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5440" y="4292640"/>
              <a:ext cx="35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65800" y="4292640"/>
              <a:ext cx="56988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11280" y="566100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26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я пользов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6920" y="5661000"/>
            <a:ext cx="23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26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менное им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2360" y="5661000"/>
            <a:ext cx="208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26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д стра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4869000"/>
            <a:ext cx="3527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4869000"/>
            <a:ext cx="18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914480" y="5300640"/>
            <a:ext cx="1224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5300640"/>
            <a:ext cx="18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4869000"/>
            <a:ext cx="180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4869000"/>
            <a:ext cx="18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730840" y="5300640"/>
            <a:ext cx="1224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5300640"/>
            <a:ext cx="18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Arial"/>
              </a:rPr>
              <a:t>Адрес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000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119700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дрес электронной почты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276640"/>
            <a:ext cx="83534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вая часть выбирается самим пользователем; вторая часть жестко связана с сервером, на котором пользователь зарегистрировал свой почтовый ящик. Разделителем между частями адреса служит символ @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916360" y="191628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1172880" cy="103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651640" y="184464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940360" y="2637000"/>
            <a:ext cx="674640" cy="718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1773360"/>
            <a:ext cx="8424720" cy="172692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2852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980000">
            <a:off x="3419640" y="263664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59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00000">
            <a:off x="5078520" y="241632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947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9640" y="292428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500280"/>
            <a:ext cx="208764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правитель наб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ет сообщен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азывает адрес получателя и от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авля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сервер ис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щей поч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3500280"/>
            <a:ext cx="165600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рвер исходя-щей почты на-правляет сооб-щение по ук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нному адр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3500280"/>
            <a:ext cx="144144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 Интернету письмо пер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аётся на сер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ер входящей почты, указан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ый в адресе получ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3500280"/>
            <a:ext cx="151128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рвер в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щей почты п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ща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почто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ящик получ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3500280"/>
            <a:ext cx="165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24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учатель открывает свой почтовый ящик и получает доступ к поступившим к нему пись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7596360" y="2060640"/>
            <a:ext cx="13014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39640" y="1916280"/>
            <a:ext cx="1892520" cy="1322280"/>
            <a:chOff x="539640" y="1916280"/>
            <a:chExt cx="1892520" cy="1322280"/>
          </a:xfrm>
        </p:grpSpPr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1889280" y="1916280"/>
              <a:ext cx="5428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539640" y="1916280"/>
              <a:ext cx="1295640" cy="13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684360" y="404640"/>
            <a:ext cx="8002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Arial"/>
              </a:rPr>
              <a:t>Схема работы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nodeType="clickEffect" fill="hold">
                      <p:stCondLst>
                        <p:cond delay="0"/>
                      </p:stCondLst>
                      <p:childTnLst>
                        <p:par>
                          <p:cTn id="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dur="indefinite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189000"/>
            <a:ext cx="8002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Arial"/>
              </a:rPr>
              <a:t>Сетевое коллективное взаимо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1413000"/>
            <a:ext cx="676764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ормы коллектив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249228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леконфе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3573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4581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66100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2276640"/>
            <a:ext cx="4968720" cy="10792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обмена информацией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я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граничена 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лагает набор разде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4581360"/>
            <a:ext cx="4968720" cy="7909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рвис группового об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режиме реальн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566100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ые многопользователь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й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90120" y="1700280"/>
            <a:ext cx="792360" cy="144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1700280"/>
            <a:ext cx="1440" cy="4249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781360"/>
            <a:ext cx="35856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3933720"/>
            <a:ext cx="358560" cy="1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941720"/>
            <a:ext cx="358560" cy="1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5856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2781360"/>
            <a:ext cx="57636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3933720"/>
            <a:ext cx="576360" cy="1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4941720"/>
            <a:ext cx="576360" cy="1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5950080"/>
            <a:ext cx="57636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92360" y="907920"/>
            <a:ext cx="2305080" cy="576360"/>
          </a:xfrm>
          <a:prstGeom prst="rect">
            <a:avLst/>
          </a:prstGeom>
          <a:solidFill>
            <a:srgbClr val="99ff99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р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9080" y="2131920"/>
            <a:ext cx="1584000" cy="43200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ог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5080" y="213192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ff7d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ар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58840" y="1484280"/>
            <a:ext cx="64764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61080" y="1484280"/>
            <a:ext cx="576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2392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1197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кр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130480" y="1995480"/>
            <a:ext cx="50472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35560" y="1989000"/>
            <a:ext cx="503280" cy="358920"/>
          </a:xfrm>
          <a:prstGeom prst="line">
            <a:avLst/>
          </a:prstGeom>
          <a:ln w="28440">
            <a:solidFill>
              <a:srgbClr val="005ab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3959280"/>
            <a:ext cx="3025800" cy="431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совпадает с лог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060720"/>
            <a:ext cx="4319640" cy="539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оит не менее чем из 6-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повторяющихся симв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6160" y="5805360"/>
            <a:ext cx="6333840" cy="674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мволы не образуют никаких слов, чисел, аббревиату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язанных с пользов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21300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ст для запом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65760" y="2563920"/>
            <a:ext cx="473040" cy="1395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59280" y="2563920"/>
            <a:ext cx="32544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505040" y="2563920"/>
            <a:ext cx="793800" cy="495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Доступ к сервис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959280"/>
            <a:ext cx="4319640" cy="539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ключает строчные и прописные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0720" y="4859280"/>
            <a:ext cx="4859280" cy="72072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ет хотя бы один специальный 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@ # % $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2563920"/>
            <a:ext cx="431640" cy="32414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23960" y="2562120"/>
            <a:ext cx="217800" cy="22989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13480" y="2571840"/>
            <a:ext cx="326880" cy="13888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2001"/>
                            </p:stCondLst>
                            <p:childTnLst>
                              <p:par>
                                <p:cTn id="130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2001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3002"/>
                            </p:stCondLst>
                            <p:childTnLst>
                              <p:par>
                                <p:cTn id="137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3002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4003"/>
                            </p:stCondLst>
                            <p:childTnLst>
                              <p:par>
                                <p:cTn id="144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dur="indefinite" fill="hold">
                            <p:stCondLst>
                              <p:cond delay="4003"/>
                            </p:stCondLst>
                            <p:childTnLst>
                              <p:par>
                                <p:cTn id="1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dur="indefinite" fill="hold">
                            <p:stCondLst>
                              <p:cond delay="5004"/>
                            </p:stCondLst>
                            <p:childTnLst>
                              <p:par>
                                <p:cTn id="151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5005"/>
                            </p:stCondLst>
                            <p:childTnLst>
                              <p:par>
                                <p:cTn id="154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5006"/>
                            </p:stCondLst>
                            <p:childTnLst>
                              <p:par>
                                <p:cTn id="1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dur="indefinite" fill="hold">
                            <p:stCondLst>
                              <p:cond delay="6006"/>
                            </p:stCondLst>
                            <p:childTnLst>
                              <p:par>
                                <p:cTn id="161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dur="indefinite" fill="hold">
                            <p:stCondLst>
                              <p:cond delay="6007"/>
                            </p:stCondLst>
                            <p:childTnLst>
                              <p:par>
                                <p:cTn id="1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dur="indefinite" fill="hold">
                            <p:stCondLst>
                              <p:cond delay="7007"/>
                            </p:stCondLst>
                            <p:childTnLst>
                              <p:par>
                                <p:cTn id="168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/>
  <dcterms:modified xsi:type="dcterms:W3CDTF">2025-02-05T17:20:03Z</dcterms:modified>
  <cp:revision>151</cp:revision>
  <dc:subject/>
  <dc:title>Презентация PowerPoint</dc:title>
</cp:coreProperties>
</file>